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BF5-95F2-4BF4-9B46-2EE46C4B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018-C77C-4A39-A918-19876B9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55B-EFD3-451F-A9AB-84CFF351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72F-8AD2-4362-B8D8-7D7D39F9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0E4-0B98-40C3-8378-11F70B08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C6F-728A-4EE2-BABA-607F2BEC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8C83-B902-4BE9-A746-BD41E90B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D4AA-56C3-4DC1-8E3F-6FF72C4B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64B-3C30-4D00-8793-C00B333F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2A6C-16AC-4065-B907-395BF414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323-EBA1-4808-9C2C-C4843E0C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04C9-0AE5-4D83-A751-41E0E9D6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44C5-0B55-4249-88A7-1B6818A0E8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8600" y="30492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f ein Stücken Papier, schreib deinen Nam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f ein anderes, schreib ein Körperteil mit der/die/d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80880" y="297180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reib ein Briefchen mit einer “Gute Besserung” Wuns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Übersetze “I heard that you hurt your…”  Es tut mir Leid das zu hö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Tell him/her that you heard how they did it.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heard that you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hreib 6 Sätz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20:33:44Z</dcterms:created>
  <dc:creator>ahart</dc:creator>
  <dc:description/>
  <dc:language>en-US</dc:language>
  <cp:lastModifiedBy>ahart</cp:lastModifiedBy>
  <dcterms:modified xsi:type="dcterms:W3CDTF">2013-02-19T20:37:59Z</dcterms:modified>
  <cp:revision>1</cp:revision>
  <dc:subject/>
  <dc:title>Slide 1</dc:title>
</cp:coreProperties>
</file>